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8D6-2660-442D-AAAE-A26784D2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54D-C50F-4830-A49E-0A2EC875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F02-192E-4733-B732-B561CCB1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C26-4F92-4365-A98C-D02B1C0C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0F6B-B229-4AE9-8703-6A0D6E40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8311-B052-40E2-A25E-5428A4CF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A8C5-0636-4E81-9CAB-7099A815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44D8-FA26-4D5F-8D5F-8AAF10D2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B256-E36B-4B8F-8384-E4C68C5F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616B-F8ED-4CA8-A1CF-16B6B40C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8F35-4F05-4C82-ABA1-067E0BD2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DD0-83DB-4CDE-B650-4916749B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CAF4-89CB-48C6-A8E5-C06286D3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3E98-67BE-48C3-81D7-9AFDDFC3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8132-AEBA-4587-A663-25DA8CBB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31FB-E980-4C0F-BFEE-45B7C39C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6ECD-088C-467C-B422-3B29386A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A5A-013F-4AED-BF43-0F64F66B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4BA-4E03-4EB5-8093-63DB72C7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CC81-82FD-48D5-A5F6-764C67C6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EDE-ED8E-4A04-BA6A-477EF61F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FC3-6A71-4E8A-AAA8-7A353097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7F5-C493-4BD4-A932-131FA50A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43F-B398-45E2-93EC-6E8D82B8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AEB9-25FC-44BF-AAA4-3FD88FB60F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0880-2F96-4F80-ABAA-E25A14C98E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360" y="2060640"/>
            <a:ext cx="828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KJET PRINT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PIXMA iP3500"/>
          <p:cNvPicPr/>
          <p:nvPr/>
        </p:nvPicPr>
        <p:blipFill>
          <a:blip r:embed="rId3"/>
          <a:stretch/>
        </p:blipFill>
        <p:spPr>
          <a:xfrm>
            <a:off x="4211640" y="5013360"/>
            <a:ext cx="3191040" cy="295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Canon - Advanced Simplicity"/>
          <p:cNvPicPr/>
          <p:nvPr/>
        </p:nvPicPr>
        <p:blipFill>
          <a:blip r:embed="rId4"/>
          <a:stretch/>
        </p:blipFill>
        <p:spPr>
          <a:xfrm>
            <a:off x="3059280" y="5013360"/>
            <a:ext cx="1143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3360" y="749160"/>
            <a:ext cx="78836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ges per minu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ffffff"/>
                </a:solidFill>
                <a:latin typeface="Arial"/>
              </a:rPr>
              <a:t>The Cannon Pixma can print up to 17 coloured pages per minute while it can print up to 25 pages per minute using black ink only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005360"/>
            <a:ext cx="8229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86900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ffffff"/>
                </a:solidFill>
                <a:latin typeface="Arial"/>
              </a:rPr>
              <a:t>The resolution of the Cannon Pixma printer is 4800 x 1200dpi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can this be connected to a net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ffffff"/>
                </a:solidFill>
                <a:latin typeface="Arial"/>
              </a:rPr>
              <a:t>This printer can be connected to your computer by a USB cable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ffffff"/>
                </a:solidFill>
                <a:latin typeface="Arial"/>
              </a:rPr>
              <a:t>You can also connect your phone and camera via the pictbridg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48000" y="4437000"/>
            <a:ext cx="30481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2:48:20Z</dcterms:created>
  <dc:creator>hug0003</dc:creator>
  <dc:description/>
  <dc:language>en-US</dc:language>
  <cp:lastModifiedBy>hug0003</cp:lastModifiedBy>
  <dcterms:modified xsi:type="dcterms:W3CDTF">2008-09-16T02:53:53Z</dcterms:modified>
  <cp:revision>2</cp:revision>
  <dc:subject/>
  <dc:title>Slide 1</dc:title>
</cp:coreProperties>
</file>